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2930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54756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84096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113400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42776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42776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42776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8748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2" marL="19044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3" marL="29304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4" marL="39600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5" marL="39600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6" marL="39600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8748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2" marL="19044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3" marL="29304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4" marL="39600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5" marL="39600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6" marL="39600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823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254160" indent="-254160">
              <a:spcBef>
                <a:spcPts val="320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1" marL="554400" indent="-254160">
              <a:spcBef>
                <a:spcPts val="320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2" marL="901440" indent="-254160">
              <a:spcBef>
                <a:spcPts val="320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3" marL="1248120" indent="-254160">
              <a:spcBef>
                <a:spcPts val="320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4" marL="1594440" indent="-254160">
              <a:spcBef>
                <a:spcPts val="320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5" marL="1594440" indent="-254160">
              <a:spcBef>
                <a:spcPts val="320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6" marL="1594440" indent="-254160">
              <a:spcBef>
                <a:spcPts val="320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69360" indent="-3693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689760" indent="-369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1059120" indent="-3693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1428840" indent="-3693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798560" indent="-369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798560" indent="-369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798560" indent="-3697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602400" y="127080"/>
            <a:ext cx="6197760" cy="97790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Eat chocolate slow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Look after your GOOD HEA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Discover &amp; share your LIG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Self-compassion ... Mindfulness Self-kindness Shared humani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Beginner’s mi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Welcome all visito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BREATHE DEEPLY to calm the barking do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OUT-BREATH Count In-BREATH Count, WHOLE BODY BREATHING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Focus on a SINGLE POI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Arriving at YOUR DO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5 Colors Shapes Sound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MAY I BE ... Happy Healthy We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MIND HEART BODY LIKE SKY OCEAN MOUNTA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Wishing Ourselves Others We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Good company for the journe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Kindly, Gently RETURN to the breat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Coming to our SENS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Loving-kindness Imagery Feeling Word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REMEMBER YOU ARE LOV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Savour sitting we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Present moment awareness ... kind, curious, accep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Circle of compass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Meditation ... it’s not what you th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Just like m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Spaciousnes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Suffering = Pain x Resista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Every moment is a cha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Take in the goo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Soft eyes, Soft fac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Arial Italic"/>
              </a:rPr>
              <a:t>Sensations, Images, Feelings, Though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Arial Italic"/>
              </a:rPr>
              <a:t>Recognise, Accept, Inquire, Now let g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Arial Italic"/>
              </a:rPr>
              <a:t>RIDE the breat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Deep RESOLV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Take care of your GOOD HEA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Be GOOD COMPANY for yoursel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Cultivate LOVE &amp; WISDOM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© Nickolas Yu (2010).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www.slowcoachsydney.org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027320" y="114480"/>
            <a:ext cx="2476800" cy="927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52280" y="-1282680"/>
            <a:ext cx="6197760" cy="11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Deep RESOLVE 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Take care of your GOOD HEART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Attitude of gratitude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Take perspective, there’s a BIGGER PICTURE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Know what matters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Welcome all visitors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Being replenished and inspired by nature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500" spc="-1" strike="noStrike">
                <a:solidFill>
                  <a:srgbClr val="000000"/>
                </a:solidFill>
                <a:latin typeface="Arial Bold Italic"/>
                <a:ea typeface="Arial Bold Italic"/>
              </a:rPr>
              <a:t>There’s no failure, only feedback 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Express appreciation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Eat well, sleep well, move more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SEE FEEL DO GOOD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Lots of LOVE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CONNECT with family and friends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DO WHAT You love You’re good at Makes a difference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Set GOALS. CAN do. WAYS to.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SAVOUR the good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WWW What’s working well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Be GOOD COMPANY for yourself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LET GO of past hurts and sorrows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BE here NOW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Play to your strengths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WOW Wishing others well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WOW Wishing ourselves well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DO R.A.O.K.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RIDE the breath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May I be ... May you be ... HAPPY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"/>
                <a:ea typeface="Arial Bold"/>
              </a:rPr>
              <a:t>What we focus on GROWS!</a:t>
            </a:r>
            <a:r>
              <a:rPr b="0" lang="en-US" sz="4500" spc="-1" strike="noStrike">
                <a:solidFill>
                  <a:srgbClr val="000000"/>
                </a:solidFill>
                <a:latin typeface="Arial Bold Italic"/>
                <a:ea typeface="Arial Bold Italic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old Italic"/>
                <a:ea typeface="Arial Bold Italic"/>
              </a:rPr>
              <a:t>Focus on the positives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Arial Bold Italic"/>
                <a:ea typeface="Arial Bold Italic"/>
              </a:rPr>
              <a:t>Reach for the stars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Arial Bold Italic"/>
                <a:ea typeface="Arial Bold Italic"/>
              </a:rPr>
              <a:t>Keep the brain in mind!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Learn &amp; BOUNCE BACK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Focus on effort and enjoy the journeySet GOALS Positivity inspires energy, creativity &amp; resilience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 Bold"/>
                <a:ea typeface="Arial Bold"/>
              </a:rPr>
              <a:t>Whole body listening</a:t>
            </a:r>
            <a:endParaRPr b="0" lang="en-US" sz="5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br>
              <a:rPr sz="5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 Nickolas Yu (2010). 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www.slowcoachsydney.org</a:t>
            </a:r>
            <a:br>
              <a:rPr sz="4500"/>
            </a:br>
            <a:endParaRPr b="0" lang="en-US" sz="20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rcRect l="306" t="0" r="306" b="0"/>
          <a:stretch/>
        </p:blipFill>
        <p:spPr>
          <a:xfrm>
            <a:off x="10839600" y="6024600"/>
            <a:ext cx="2476440" cy="92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